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88638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17600" y="685440"/>
            <a:ext cx="2422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E7E5-6ADA-4901-B3B2-DEC5C4FC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F4D0-A334-4D0E-BCAB-190F65A5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8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53B-7CBE-4177-8E27-AE28C7E3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961920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240" y="8120160"/>
            <a:ext cx="961920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C3C-72C4-42A2-9CBF-1ED1687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24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47D-9DEE-4227-AD08-7E681A2F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480" y="353880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8720" y="353880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240" y="812016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480" y="812016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8720" y="812016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6D3-C4AF-471A-A832-928A5C89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240" y="3538800"/>
            <a:ext cx="961920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C21-14A6-4DF9-91B6-203F3664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961920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C14-95A1-422F-B3DC-3800F573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E11-9386-4900-B17C-3EE3F938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FA5-AA18-45F3-8D26-FA02CCAF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240" y="603360"/>
            <a:ext cx="961920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2D4-3FB3-46DA-A6E2-3C838414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24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03E-EF4E-407F-B970-273AE91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C06-9464-4C00-B644-5C88590E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240" y="8120160"/>
            <a:ext cx="961920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FAC-78B9-437A-86C7-4BC1CB1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1360" y="13779000"/>
            <a:ext cx="2227320" cy="100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51120" y="13779000"/>
            <a:ext cx="3386160" cy="100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659360" y="13779000"/>
            <a:ext cx="2227320" cy="100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E4D8AE53-40E0-4933-BC1E-45DC191FB7A5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8" descr="&#10;wanted.jpg                                                     00004382_x0006_Disk 4                         BC922999:"/>
          <p:cNvPicPr/>
          <p:nvPr/>
        </p:nvPicPr>
        <p:blipFill>
          <a:blip r:embed="rId2"/>
          <a:stretch/>
        </p:blipFill>
        <p:spPr>
          <a:xfrm>
            <a:off x="-3240" y="0"/>
            <a:ext cx="10694880" cy="15122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" name="Text Box 29"/>
          <p:cNvSpPr/>
          <p:nvPr/>
        </p:nvSpPr>
        <p:spPr>
          <a:xfrm>
            <a:off x="7059600" y="1378584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posters.co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492880" y="7543800"/>
            <a:ext cx="209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492880" y="6372360"/>
            <a:ext cx="209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24400" y="5832360"/>
            <a:ext cx="2095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6"/>
          <p:cNvSpPr/>
          <p:nvPr/>
        </p:nvSpPr>
        <p:spPr>
          <a:xfrm>
            <a:off x="1192320" y="3693960"/>
            <a:ext cx="867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8"/>
          <p:cNvSpPr/>
          <p:nvPr/>
        </p:nvSpPr>
        <p:spPr>
          <a:xfrm>
            <a:off x="1281240" y="2178000"/>
            <a:ext cx="87073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DEA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FOR Injuring Civilians And Killing Pol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9"/>
          <p:cNvSpPr/>
          <p:nvPr/>
        </p:nvSpPr>
        <p:spPr>
          <a:xfrm>
            <a:off x="782640" y="11853720"/>
            <a:ext cx="912024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Stencil"/>
              </a:rPr>
              <a:t>REWARD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1"/>
          <p:cNvSpPr/>
          <p:nvPr/>
        </p:nvSpPr>
        <p:spPr>
          <a:xfrm>
            <a:off x="782640" y="10755360"/>
            <a:ext cx="912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Reap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4"/>
          <p:cNvSpPr/>
          <p:nvPr/>
        </p:nvSpPr>
        <p:spPr>
          <a:xfrm>
            <a:off x="782640" y="895320"/>
            <a:ext cx="909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Stencil"/>
              </a:rPr>
              <a:t>WANTED!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http://25.media.tumblr.com/tumblr_m4uzknlWXK1qlxwcdo1_500.jpg"/>
          <p:cNvPicPr/>
          <p:nvPr/>
        </p:nvPicPr>
        <p:blipFill>
          <a:blip r:embed="rId1"/>
          <a:stretch/>
        </p:blipFill>
        <p:spPr>
          <a:xfrm>
            <a:off x="1504800" y="6364440"/>
            <a:ext cx="8123400" cy="4565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2590920" y="12903120"/>
            <a:ext cx="479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Stencil"/>
              </a:rPr>
              <a:t>$$$$90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0:37:33Z</dcterms:created>
  <dc:creator>julie skelton</dc:creator>
  <dc:description/>
  <dc:language>en-US</dc:language>
  <cp:lastModifiedBy>Red Deer Public Teacher</cp:lastModifiedBy>
  <cp:lastPrinted>2007-09-05T20:33:12Z</cp:lastPrinted>
  <dcterms:modified xsi:type="dcterms:W3CDTF">2013-01-09T20:45:00Z</dcterms:modified>
  <cp:revision>16</cp:revision>
  <dc:subject/>
  <dc:title>Your Title Here</dc:title>
</cp:coreProperties>
</file>